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A79-5F2A-495B-81FC-4AE38E236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DD51-49EA-4643-B9BA-C9BD530123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BDE7-0FD8-4D1F-9600-D2DF7B2E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5C46-CC34-45E5-BDCF-1C9CB329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E775-C135-4AE5-9F19-D1668879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D026-E3BD-4DA9-8702-80EE2DC7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610D-0CC9-47B3-8185-DDE2E627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7E44-AC56-46A8-8777-3C44070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910A-C02D-4E7B-9959-27125D20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AC9A-F8A0-4310-9C48-4D63735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4128-8E06-4446-91A1-A6CE6F25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D929-C61A-4CCB-8C20-C1923B9E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E93-ECE2-4B38-A642-E6A5BF0A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D90E-9015-48D4-8100-529E7F3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E6D8-91CE-4A75-B325-5D92DC1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404B-3412-42D8-8BFA-829BC5C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77EE-4A5C-442B-B60C-F88FFE5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E8A-C5E0-423D-A0D1-708381CF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7BC4-AE9C-4E51-BE71-DD8F06DD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29FA-0601-4BC5-A280-6827AFBC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7E89-ED84-4AA2-A396-70512842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0001-0A6E-4DFD-ACD9-E3FA8057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468F-96D7-405B-AF88-7FF5F8E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B212-F6D9-44FB-9AD9-AA8FB411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D8B3-AE42-44A1-96AC-932C9D6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41D7-331B-405C-98E0-77DDACE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1482-CA3A-4B79-BE77-DC798C5617B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1C35-4497-4D2D-85BB-9FF1FB103BE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-32400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4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99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ръстът ти ако е тежъ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ди в борбата крепъ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любов носи кръста 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все пак ще те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Ако е борбата труд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бедата ще е чуд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любов носи кръста 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все пак ще те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Бори се неуморим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Христа стой ти правдиво! Вярвай в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любов носи кръста 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все пак ще те спа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ярвай в Хр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29T16:12:09Z</dcterms:modified>
  <cp:revision>78</cp:revision>
  <dc:subject/>
  <dc:title>Slide 1</dc:title>
</cp:coreProperties>
</file>